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9FF1-5353-47C5-916D-86F8964070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0F24-7727-4337-8397-FBE955B203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6FD9-30EB-4875-BBCA-E83F3489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175D-2351-4447-B134-A305406F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EFF4-25F8-49E4-A41C-92B9EC76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7A68-9ABA-4285-9700-14FB2A00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1F8B-3AB2-4013-8576-0592E00C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EEBE-92CE-4809-B73C-2ADC4276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A975-1636-4F42-A2BC-BB883B89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C7A5-A8BD-473B-AB44-69D7A4EA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0DCE-1D83-4367-B0D9-6C2FC9CC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C946-FD4F-4C1A-BEF2-5A33B534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990B-60CA-4EB2-9231-036680DE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09AF-93CC-4644-97DC-E926623E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A1E2-8F40-48ED-83B0-4F67B43CD6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AF8D-4F89-4B94-B16B-7D82521B77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верхнего предела муниципального долга на 1 октября 2022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35A2-E490-49A9-ABEA-1EF6B125BC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октября 2022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118800" cy="58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118800" cy="58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Наговицына</cp:lastModifiedBy>
  <cp:lastPrinted>2020-01-10T05:43:34Z</cp:lastPrinted>
  <dcterms:modified xsi:type="dcterms:W3CDTF">2022-10-04T09:13:32Z</dcterms:modified>
  <cp:revision>143</cp:revision>
  <dc:subject/>
  <dc:title>Презентация PowerPoint</dc:title>
</cp:coreProperties>
</file>